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84FB-D7F0-4348-960C-C010B26AE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D0F7-3186-4DCD-BA90-57E682AD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304F-7784-433D-938C-E85E6E5E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15BA-FF19-4349-8D0A-2DADC581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1B27-0C0B-425D-A112-83D7D563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AF3C6-2489-4DB4-ACD7-B0732348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BA04D-354C-4178-ACB3-8FFFBC27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6152C-73A9-442E-B435-03B8FEDA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5DB0A-20E1-4EEC-8772-5183E383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1FDFD-12DE-40C0-BC4D-07343506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B1814-4139-4493-A7B7-92B98C05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C8FA7-494A-415A-B36B-5B526080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7334-DDEE-4006-AC9E-70DA6DBA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B76C5-1A36-415F-A417-3B130735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3C09C-BC41-471E-908D-2CB1E867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D3630-C198-4928-A1FE-3E9F2E17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3763B-6942-45ED-9F5D-B332FB00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0C6B0-ECF8-42FF-845A-1FA6AC3E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AA0F6-2D14-4A0A-A538-25FBFEA3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591A6-BFA1-4D76-BC3A-42503A52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70DC2-8485-4941-8D9A-FFBAC3D7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3BEB1-EDD9-4B29-A5A3-4F803354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ED602-DA2C-493B-86F0-9686FD7A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9DF6-06A5-4296-94F2-C35C9D49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AB3A8-DC33-4180-B830-5856BABE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82B73-21E5-43EA-A564-D835E1D7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78993-F0A6-4609-880A-3F185505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3546B-ADCB-4DF6-B029-AF0E0E0A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3EAE4-AE17-4CD2-8BDF-32B6C357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7BA5B-B09B-45BD-B34C-8E9F02DA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F15CD-0CA8-4D70-A261-252E111C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043A4-8BD4-4592-AE54-412683AC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76416-EB65-4F90-9E6D-3F2C8B72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D7A80-3A35-472E-B501-03B3C2E0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5C65-1906-403B-98D9-9BCABAC0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48DE0-C652-4DDE-BED3-AE867ACF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13929-68CC-4480-8343-6FEB4E95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57EB2-D24C-4E59-873A-B10B5650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A62EF-96CD-4067-A934-5E74CDF1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D355A-B8E1-4193-91A8-C0030F4C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331CA-A5A0-41D3-980F-E4FEFF38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BCE30-19E4-4979-AE93-EADC28A7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51CC7-4780-42DC-842D-D911CEC0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13308-9A41-43A2-A722-3502F2D8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0B19B-7CA1-47D7-85F6-1EB470DC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D361-B077-42E6-821E-CB4A7132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181D1-0871-4786-967D-0D3EB26D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0148E-5D67-4192-AEB4-9DB8AD00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F0602-5447-4BB5-AB2D-E05F1831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BFE72-26DE-4BAF-9C5C-8F6BEA78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E544D-30F8-4A14-A605-FB8B13D5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5184D-D565-455D-BF0C-EABE6C5E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8432E-8825-4F43-8766-99390B20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17D2B-9DA8-42B4-80A3-4F8F7577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1C471-F655-4BDE-8279-30B44D25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BDC1A-69B8-4609-B6C9-EB4771A0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70EF-E8B3-4655-8508-BAC1D352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C7BE7-E60E-4340-9D4F-BE2C3E42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6B14-BD4F-4EEE-823F-53E0FE94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3977-3B61-4101-90A6-50AF8603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291B-9E57-4359-BB67-B874963D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B642-B068-403B-9C99-80E276912C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1A49-C396-463B-8369-F001ACD113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A3AE-1BEE-4802-936A-650759088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3C0E-9A60-4685-AF8A-DE158246DE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1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1672-BAB4-4827-81B1-6D656F204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www.google.com/imgres?imgurl=http://wilson2011.wikispaces.com/file/view/inca_map.jpg/196699002/inca_map.jpg&amp;imgrefurl=http://wilson2011.wikispaces.com/Mayas,%2BOlmecs,%2BAztecs,%2Band%2BIncas&amp;h=793&amp;w=647&amp;sz=40&amp;tbnid=eFNlGFeAETFa-M:&amp;tbnh=83&amp;tbnw=68&amp;prev=/search%3Fq%3Dinca%2Bmap%26tbm%3Disch%26tbo%3Du&amp;zoom=1&amp;q=inca+map&amp;docid=GkW0crshEE0EWM&amp;hl=en&amp;sa=X&amp;ei=01jWTtv3OKXm0QHv3tDWAQ&amp;sqi=2&amp;ved=0CDYQ9QEwBA&amp;dur=8127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9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quer of the Aztecs, and 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y Peter Mosqu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ide 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itl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ide 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ut and paste these standards into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eb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zte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pital city was Tenochtitlan ,it was weird because it was built in a lake.  The name was Texco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ztecs were polytheis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ztec leader was named Montezu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anish destroyed Tenochitlan and built Mexico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tec map.g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095880" y="4572000"/>
            <a:ext cx="23623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hey lived in South America, An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he capital was Cuzco they wer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polythei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hey had no written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 language  but one spo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hey practiced animal sacrif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hey had a civil war[ a battle between two groups that live in the same country] between brothers destine to be rul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752480" y="685800"/>
            <a:ext cx="1933560" cy="23716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428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3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-7920" y="32454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inca_map.jp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-7920" y="3260160"/>
            <a:ext cx="14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ilson2011.wikispaces.co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37680" y="6490440"/>
            <a:ext cx="65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47 × 793 -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gion inca_map.jpg. Useful Websi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9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4267080"/>
            <a:ext cx="7848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were located in the Yucatan Peninsu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just one major city-was much harder for conquistadors to overthro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were polytheist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religion did not contain as much g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also had  slaves to do there bidding who sometimes gained freedo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9564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ztecs  thought he was there god Quetzalcoat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conquistador who conquered the Azte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onquered them with power but mostly sic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z had 500 men to conquer the Azte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zzar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conquistador that conquered the Incas with 180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took the winner of the civil war captive and said if he joined there religion he would make his death shor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at he killed them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e first saw the Inca empire he was scared and backe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7047000" y="0"/>
            <a:ext cx="1334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y d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onquered the Aztecs and In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killed a lot of the natives but the main threat was germs they brought wit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estroyed some rely big emp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6:00:35Z</dcterms:created>
  <dc:creator>jklib</dc:creator>
  <dc:description/>
  <dc:language>en-US</dc:language>
  <cp:lastModifiedBy>jklib</cp:lastModifiedBy>
  <dcterms:modified xsi:type="dcterms:W3CDTF">2011-11-30T16:28:14Z</dcterms:modified>
  <cp:revision>19</cp:revision>
  <dc:subject/>
  <dc:title>The conquer of the Aztecs, and Incas</dc:title>
</cp:coreProperties>
</file>